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950845-C066-4F8F-8554-0D05BA1AD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ACC7F5-4DE7-4E5A-98AC-80EC8FC85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18C771-D05E-4425-997E-79227E767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30103D-D7F2-4C93-88CD-23197D189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F587E-C94C-4EA6-89D1-9F59B5C61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73086-6C90-4BED-B524-D937AD10E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DBA2E-6A7E-422E-BBC5-1F0863ADF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DBE49-7D79-4147-9B6C-942DCD0FC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6FAC6-FB7B-4109-BBB9-4C20841E6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34A1B-29F9-436A-B260-217A29EC4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B8CFD-724B-426A-AE9D-4CF94EBBA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AFE4B7-FEF4-426C-AFA6-60148ACF9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5A882-F796-482F-9559-14B10D49A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B0446-B080-4ED5-8CBD-E08D219CC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A84C9-5053-465F-ACA0-0BF9C1D1A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DB50C-2817-46FB-83DB-447434678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310F4-8B7A-4891-9F78-FAF8DD88C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5D06A6-724D-4489-99DE-2CA7EF467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AE6A01-CAB7-4440-B9C8-AA809388C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5D814D-C8C9-44E1-8C5F-B8845B65F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0C0830-456F-4AE1-AD5A-ECADFFDB8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685C57-977E-4635-B301-8F8C36A59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ACFDBC-C748-43DD-A79C-42AEC0E6F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59F617-031D-47BE-B145-79EE0285C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BB4E5-DD89-42DB-8E51-254B7479ED70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D024C-8C61-4989-8D1D-A5FEB7184D9D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-252360" y="1400040"/>
            <a:ext cx="9577440" cy="38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000" spc="-1" strike="noStrike">
                <a:solidFill>
                  <a:srgbClr val="ffffff"/>
                </a:solidFill>
                <a:latin typeface="Arial"/>
              </a:rPr>
              <a:t>271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bg-BG" sz="3000" spc="-1" strike="noStrike">
                <a:solidFill>
                  <a:srgbClr val="ffffff"/>
                </a:solidFill>
                <a:latin typeface="Arial"/>
              </a:rPr>
              <a:t>Пр.411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 Кой направил е цветята?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Кой с росица ги пои?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Кой им даде аромата?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Кой ги с краски украси?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/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-541440" y="1627200"/>
            <a:ext cx="1008216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 Кой на птичките крилата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дал е леко да летят?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Кой научи ги гнездата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в шумата да си строят?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-252360" y="1379520"/>
            <a:ext cx="957744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 Мравчицата кой научи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да си скътва туй житце,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и пчелата мед да смуче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от красивото цветче?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-252360" y="1379520"/>
            <a:ext cx="957744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4. Всичко Ти направи, Боже,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Ти Си всичко наредил!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Птичката да хвърка може,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че крилца Си й дарил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-252360" y="1379520"/>
            <a:ext cx="957744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5. Ти направи небесата,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деня ясен и нощта.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Тебе славят на земята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и най-малките неща!</a:t>
            </a:r>
            <a:r>
              <a:rPr b="0" lang="bg-BG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10-07-10T06:28:20Z</dcterms:modified>
  <cp:revision>206</cp:revision>
  <dc:subject/>
  <dc:title>Slide 1</dc:title>
</cp:coreProperties>
</file>